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ll story for activation … in many cultures it is customary to take gifts when you visit. These gifts may be wrapped nicely in beautiful but expensive ribbon. Assume each gift uses the same amount of ribbon ~ ¾ of a yard. 7 yards. (kids don’t have concept of yard … discussion of feet … what is a foot? 30cm someone said. Kids defaulted to conversion and decima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ate problem with the group (2 minu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 learn to anticipate student thinking (with a facilit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return to the group – question by listening to the “student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receive information about their role (recording the dialogue and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Observers return to the group to capture the dialog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o know what the whole is to know what the fraction is! (recall ribbon ques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s the whole that we are dividing in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part of the whole does the leftover piece repres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s are upfront here for our learning … Reminder: </a:t>
            </a:r>
            <a:r>
              <a:rPr b="1" lang="en-CA" sz="1200" spc="-1" strike="noStrike">
                <a:solidFill>
                  <a:srgbClr val="000000"/>
                </a:solidFill>
                <a:latin typeface="Arial"/>
              </a:rPr>
              <a:t>not always the case in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ment &amp; clarify of learning go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thinking, use student responses to shift instruction and expose student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expres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velop a deepened understanding 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s of questioning that elicit and promote mathematical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ing of fraction as an action (operator &amp; quotient mean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 PPQ template as a means to anticipate and identify good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rporate these learning goals into the learning wall as we come to these learnings through our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dentify strategies we can begin using to incorporate more meaningful questioning into our less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ider how we can get students to generate and use questions (network/web of student-student tal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video gets at what it means to develop a thinking classroom and a community of meaningful tal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tend to shut down thinking …the kids are tentative because they don’t know th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the Brownie Question show the Lucy West video clip where she is questioning kids. Juxtapose with the Seinfeld cli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are about trying to hear and understand student thinking – not just chec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need to ask the right sort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lso develop question prompts that students ask one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del what we might expect to hear in the classroom (practice asking Q to one another and listening in an interpretive se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ategy for changing our questioning is to write down ahead of time some standard questions that work in most situations (e.g. tell me more about that … tell me how you know … how does this connect to what we did yesterday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ce of a math talk learning commun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et model rather than a deficit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achers interacting with each other in a true PL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stening to understand student thinking – not just listening for misconcep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perspective – “different understa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understand this? How do you se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we train ourselves to listen be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igning good questions takes time and “knowledge” … we learn as much from the kids as they learn from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xt question I ask depends on how the student just responded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min) </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vate the brownie problem using a story context (Fosnot) that requires kids make sense of to sol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b baked  brownies, her son got in and ate some, there were only 7 left. Deb’s daughter came in with her friends and they were going to split them up.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uch will each of the girls - Tori, Anna, Rachel, and Emily - get? </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Solve the problem to anticipate student thinking and identify potential questions to ask.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consider, what learning goal might you have for this problem?</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Look at samples of student work at your table … use prompts from the resources at your table to push student thinking forward, to make sense of thinking.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rite your questions on post-its - content/process/strategy – place on the student work.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5min) What are some of the challenges in question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ing sense of another’s thinking. Changing question in the moment. Consider the ways to support kids’ engage in the consolidation so kids learn from others’ thinking, making meaning of fractions – What do you notice about this? What meaning of fraction is being demonstrated, was it used as a quotient? Formal vs informal? How do experiences in fair sharing support this? How was it used as a number (area model)? What about the solutions focused on answer as a set model? How do we connect these (different but related … 3 pieces of brownie (set) different than 1 ¾ brownies (area), but also rel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to-student ques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hat does a network of conversation look lik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raw a network map – what would those connections look like? Can you imagin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learning commun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 interaction in the math class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ffective questioning monograp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E806A-C0D3-42D1-9080-410E227D9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F6365-5578-47CD-8120-059774229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853D1-E426-4D28-9516-7DA5169DBD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9C945-5197-46FE-A7FC-990229BEE9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F58AB-FC78-436F-AD97-F6887A9E6E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F598-BF7A-4EF6-8510-E83CEA6D8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B4CA4-BF0F-4B4F-845B-418533C87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E7779F8-EC20-401C-A96D-76490A50C7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D686E0-61FD-47BB-8C8C-8326028E4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709DF-70E3-4F41-8589-031D68739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51889-37FC-49F5-AE4A-1C905D97BA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E87FA-18C0-4BFD-B01E-FDED7C47C3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0B6B-7B0B-4F25-B226-BD851F9371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cooperativelearning.nuvvo.com/lesson/9592-seinfeld-teaches-histor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8552-1986-4912-B602-2478EBD46A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2285640"/>
            <a:ext cx="8077320" cy="1523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br>
              <a:rPr sz="4800"/>
            </a:br>
            <a:r>
              <a:rPr b="0" lang="en-US" sz="4400" spc="-1" strike="noStrike">
                <a:solidFill>
                  <a:srgbClr val="2490d8"/>
                </a:solidFill>
                <a:latin typeface="Tahoma"/>
              </a:rPr>
              <a:t>Breakout 4A</a:t>
            </a:r>
            <a:endParaRPr b="0" lang="en-US" sz="4400" spc="-1" strike="noStrike">
              <a:solidFill>
                <a:srgbClr val="2b5ca9"/>
              </a:solidFill>
              <a:latin typeface="Arial"/>
            </a:endParaRPr>
          </a:p>
        </p:txBody>
      </p:sp>
      <p:sp>
        <p:nvSpPr>
          <p:cNvPr id="48" name=""/>
          <p:cNvSpPr txBox="1"/>
          <p:nvPr/>
        </p:nvSpPr>
        <p:spPr>
          <a:xfrm>
            <a:off x="761760" y="4038120"/>
            <a:ext cx="7924680" cy="1676520"/>
          </a:xfrm>
          <a:prstGeom prst="rect">
            <a:avLst/>
          </a:prstGeom>
          <a:noFill/>
          <a:ln w="0">
            <a:noFill/>
          </a:ln>
        </p:spPr>
        <p:txBody>
          <a:bodyPr lIns="50760" rIns="132120" tIns="50760" bIns="50760" anchor="t">
            <a:normAutofit fontScale="87000"/>
          </a:bodyPr>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Questioning, Listening and Responding to</a:t>
            </a:r>
            <a:endParaRPr b="0" lang="en-US" sz="3200" spc="-1" strike="noStrike">
              <a:solidFill>
                <a:srgbClr val="000000"/>
              </a:solidFill>
              <a:latin typeface="Arial"/>
            </a:endParaRPr>
          </a:p>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omote Students’ Mathematical Thinking</a:t>
            </a: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0" y="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ibbon Problem</a:t>
            </a: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403848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 have 7 yards of ribbon.  It takes 3/4 of a yard to wrap a gift.  How many gifts can you wrap?</a:t>
            </a:r>
            <a:endParaRPr b="0" lang="en-US" sz="2800" spc="-1" strike="noStrike">
              <a:solidFill>
                <a:srgbClr val="000000"/>
              </a:solidFill>
              <a:latin typeface="Arial"/>
            </a:endParaRPr>
          </a:p>
        </p:txBody>
      </p:sp>
      <p:pic>
        <p:nvPicPr>
          <p:cNvPr id="76" name="" descr="gift box blue"/>
          <p:cNvPicPr/>
          <p:nvPr/>
        </p:nvPicPr>
        <p:blipFill>
          <a:blip r:embed="rId1"/>
          <a:stretch/>
        </p:blipFill>
        <p:spPr>
          <a:xfrm>
            <a:off x="4648320" y="1447920"/>
            <a:ext cx="404496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ponding by Listening Simulation</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25146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ork on the problem</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Questioning to …</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layback to student what I see in their wor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t kids to reflect on their work and see where they can go nex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a student-to-student network of dialogue</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25EE-A4E0-4F9A-BE9E-C7A67B6C27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mmary … </a:t>
            </a:r>
            <a:endParaRPr b="0" lang="en-US" sz="4400" spc="-1" strike="noStrike">
              <a:solidFill>
                <a:srgbClr val="2b5ca9"/>
              </a:solidFill>
              <a:latin typeface="Arial"/>
            </a:endParaRPr>
          </a:p>
        </p:txBody>
      </p:sp>
      <p:sp>
        <p:nvSpPr>
          <p:cNvPr id="83" name=""/>
          <p:cNvSpPr txBox="1"/>
          <p:nvPr/>
        </p:nvSpPr>
        <p:spPr>
          <a:xfrm>
            <a:off x="457200" y="1599840"/>
            <a:ext cx="8229600" cy="38862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questioning can serve to elicit and promote mathematical thinking </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ction can be a verb – the action of quotient (division) with two different but related meanings</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PPQ template as an effective way to anticipate/identify good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2A0B-19A0-45A4-9C7B-6856CA753D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partitive)</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fraction can represent divis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e.g. 7 brownies divided among 4 peo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is known (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is unknow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DA01-7793-4910-B468-094B52E08D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88" name="Group 12"/>
          <p:cNvGrpSpPr/>
          <p:nvPr/>
        </p:nvGrpSpPr>
        <p:grpSpPr>
          <a:xfrm>
            <a:off x="2286000" y="4191120"/>
            <a:ext cx="5791320" cy="1447560"/>
            <a:chOff x="2286000" y="4191120"/>
            <a:chExt cx="5791320" cy="1447560"/>
          </a:xfrm>
        </p:grpSpPr>
        <p:sp>
          <p:nvSpPr>
            <p:cNvPr id="89" name="Rectangle 5"/>
            <p:cNvSpPr/>
            <p:nvPr/>
          </p:nvSpPr>
          <p:spPr>
            <a:xfrm>
              <a:off x="373392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6"/>
            <p:cNvSpPr/>
            <p:nvPr/>
          </p:nvSpPr>
          <p:spPr>
            <a:xfrm>
              <a:off x="304776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7"/>
            <p:cNvSpPr/>
            <p:nvPr/>
          </p:nvSpPr>
          <p:spPr>
            <a:xfrm>
              <a:off x="46483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228600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9"/>
            <p:cNvSpPr/>
            <p:nvPr/>
          </p:nvSpPr>
          <p:spPr>
            <a:xfrm>
              <a:off x="708696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0"/>
            <p:cNvSpPr/>
            <p:nvPr/>
          </p:nvSpPr>
          <p:spPr>
            <a:xfrm>
              <a:off x="62485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1"/>
            <p:cNvSpPr/>
            <p:nvPr/>
          </p:nvSpPr>
          <p:spPr>
            <a:xfrm>
              <a:off x="541044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6" name="Group 20"/>
          <p:cNvGrpSpPr/>
          <p:nvPr/>
        </p:nvGrpSpPr>
        <p:grpSpPr>
          <a:xfrm>
            <a:off x="2111400" y="3890880"/>
            <a:ext cx="6324480" cy="2309760"/>
            <a:chOff x="2111400" y="3890880"/>
            <a:chExt cx="6324480" cy="2309760"/>
          </a:xfrm>
        </p:grpSpPr>
        <p:sp>
          <p:nvSpPr>
            <p:cNvPr id="97" name="Freeform 13"/>
            <p:cNvSpPr/>
            <p:nvPr/>
          </p:nvSpPr>
          <p:spPr>
            <a:xfrm>
              <a:off x="6550560" y="3890880"/>
              <a:ext cx="1885320" cy="2093760"/>
            </a:xfrm>
            <a:custGeom>
              <a:avLst/>
              <a:gdLst/>
              <a:ahLst/>
              <a:rect l="l" t="t" r="r" b="b"/>
              <a:pathLst>
                <a:path w="1885197" h="2094808">
                  <a:moveTo>
                    <a:pt x="1745673" y="199506"/>
                  </a:moveTo>
                  <a:cubicBezTo>
                    <a:pt x="1605069" y="164354"/>
                    <a:pt x="1750574" y="204791"/>
                    <a:pt x="1529542" y="116379"/>
                  </a:cubicBezTo>
                  <a:cubicBezTo>
                    <a:pt x="1496999" y="103362"/>
                    <a:pt x="1429789" y="83128"/>
                    <a:pt x="1429789" y="83128"/>
                  </a:cubicBezTo>
                  <a:cubicBezTo>
                    <a:pt x="1413164" y="72044"/>
                    <a:pt x="1397785" y="58813"/>
                    <a:pt x="1379913" y="49877"/>
                  </a:cubicBezTo>
                  <a:cubicBezTo>
                    <a:pt x="1364238" y="42040"/>
                    <a:pt x="1347038" y="37501"/>
                    <a:pt x="1330036" y="33251"/>
                  </a:cubicBezTo>
                  <a:cubicBezTo>
                    <a:pt x="1231881" y="8712"/>
                    <a:pt x="1177583" y="10323"/>
                    <a:pt x="1064029" y="0"/>
                  </a:cubicBezTo>
                  <a:cubicBezTo>
                    <a:pt x="958735" y="5542"/>
                    <a:pt x="853153" y="7080"/>
                    <a:pt x="748146" y="16626"/>
                  </a:cubicBezTo>
                  <a:cubicBezTo>
                    <a:pt x="710398" y="20058"/>
                    <a:pt x="677409" y="45776"/>
                    <a:pt x="648393" y="66502"/>
                  </a:cubicBezTo>
                  <a:cubicBezTo>
                    <a:pt x="474042" y="191040"/>
                    <a:pt x="677036" y="45405"/>
                    <a:pt x="532015" y="166255"/>
                  </a:cubicBezTo>
                  <a:cubicBezTo>
                    <a:pt x="516665" y="179047"/>
                    <a:pt x="498398" y="187892"/>
                    <a:pt x="482138" y="199506"/>
                  </a:cubicBezTo>
                  <a:cubicBezTo>
                    <a:pt x="459590" y="215611"/>
                    <a:pt x="437803" y="232757"/>
                    <a:pt x="415636" y="249382"/>
                  </a:cubicBezTo>
                  <a:cubicBezTo>
                    <a:pt x="335923" y="408813"/>
                    <a:pt x="436876" y="211151"/>
                    <a:pt x="332509" y="399011"/>
                  </a:cubicBezTo>
                  <a:cubicBezTo>
                    <a:pt x="305405" y="447798"/>
                    <a:pt x="300846" y="473582"/>
                    <a:pt x="266007" y="515389"/>
                  </a:cubicBezTo>
                  <a:cubicBezTo>
                    <a:pt x="250955" y="533451"/>
                    <a:pt x="230566" y="546707"/>
                    <a:pt x="216131" y="565266"/>
                  </a:cubicBezTo>
                  <a:cubicBezTo>
                    <a:pt x="191596" y="596811"/>
                    <a:pt x="149629" y="665019"/>
                    <a:pt x="149629" y="665019"/>
                  </a:cubicBezTo>
                  <a:cubicBezTo>
                    <a:pt x="144087" y="681644"/>
                    <a:pt x="143952" y="701211"/>
                    <a:pt x="133004" y="714895"/>
                  </a:cubicBezTo>
                  <a:cubicBezTo>
                    <a:pt x="120522" y="730498"/>
                    <a:pt x="97256" y="734017"/>
                    <a:pt x="83127" y="748146"/>
                  </a:cubicBezTo>
                  <a:cubicBezTo>
                    <a:pt x="68998" y="762275"/>
                    <a:pt x="60960" y="781397"/>
                    <a:pt x="49876" y="798022"/>
                  </a:cubicBezTo>
                  <a:cubicBezTo>
                    <a:pt x="5966" y="929755"/>
                    <a:pt x="22388" y="863202"/>
                    <a:pt x="0" y="997528"/>
                  </a:cubicBezTo>
                  <a:cubicBezTo>
                    <a:pt x="5542" y="1108364"/>
                    <a:pt x="7012" y="1219479"/>
                    <a:pt x="16626" y="1330037"/>
                  </a:cubicBezTo>
                  <a:cubicBezTo>
                    <a:pt x="18144" y="1347496"/>
                    <a:pt x="28437" y="1363063"/>
                    <a:pt x="33251" y="1379913"/>
                  </a:cubicBezTo>
                  <a:cubicBezTo>
                    <a:pt x="39528" y="1401883"/>
                    <a:pt x="44334" y="1424248"/>
                    <a:pt x="49876" y="1446415"/>
                  </a:cubicBezTo>
                  <a:cubicBezTo>
                    <a:pt x="55418" y="1551710"/>
                    <a:pt x="57368" y="1657255"/>
                    <a:pt x="66502" y="1762299"/>
                  </a:cubicBezTo>
                  <a:cubicBezTo>
                    <a:pt x="73081" y="1837963"/>
                    <a:pt x="104973" y="1861570"/>
                    <a:pt x="149629" y="1928553"/>
                  </a:cubicBezTo>
                  <a:cubicBezTo>
                    <a:pt x="160713" y="1945178"/>
                    <a:pt x="166255" y="1967345"/>
                    <a:pt x="182880" y="1978429"/>
                  </a:cubicBezTo>
                  <a:cubicBezTo>
                    <a:pt x="216131" y="2000596"/>
                    <a:pt x="244721" y="2032293"/>
                    <a:pt x="282633" y="2044931"/>
                  </a:cubicBezTo>
                  <a:cubicBezTo>
                    <a:pt x="360821" y="2070995"/>
                    <a:pt x="316238" y="2055048"/>
                    <a:pt x="415636" y="2094808"/>
                  </a:cubicBezTo>
                  <a:cubicBezTo>
                    <a:pt x="543098" y="2089266"/>
                    <a:pt x="671117" y="2091310"/>
                    <a:pt x="798022" y="2078182"/>
                  </a:cubicBezTo>
                  <a:cubicBezTo>
                    <a:pt x="832886" y="2074575"/>
                    <a:pt x="865232" y="2057948"/>
                    <a:pt x="897775" y="2044931"/>
                  </a:cubicBezTo>
                  <a:cubicBezTo>
                    <a:pt x="925484" y="2033847"/>
                    <a:pt x="953858" y="2024300"/>
                    <a:pt x="980902" y="2011680"/>
                  </a:cubicBezTo>
                  <a:cubicBezTo>
                    <a:pt x="1037048" y="1985478"/>
                    <a:pt x="1089628" y="1951564"/>
                    <a:pt x="1147156" y="1928553"/>
                  </a:cubicBezTo>
                  <a:cubicBezTo>
                    <a:pt x="1174865" y="1917469"/>
                    <a:pt x="1203591" y="1908649"/>
                    <a:pt x="1230284" y="1895302"/>
                  </a:cubicBezTo>
                  <a:cubicBezTo>
                    <a:pt x="1248156" y="1886366"/>
                    <a:pt x="1261451" y="1869067"/>
                    <a:pt x="1280160" y="1862051"/>
                  </a:cubicBezTo>
                  <a:cubicBezTo>
                    <a:pt x="1306619" y="1852129"/>
                    <a:pt x="1335753" y="1851780"/>
                    <a:pt x="1363287" y="1845426"/>
                  </a:cubicBezTo>
                  <a:cubicBezTo>
                    <a:pt x="1407816" y="1835150"/>
                    <a:pt x="1496291" y="1812175"/>
                    <a:pt x="1496291" y="1812175"/>
                  </a:cubicBezTo>
                  <a:cubicBezTo>
                    <a:pt x="1534151" y="1793245"/>
                    <a:pt x="1633610" y="1750389"/>
                    <a:pt x="1679171" y="1712422"/>
                  </a:cubicBezTo>
                  <a:cubicBezTo>
                    <a:pt x="1697233" y="1697370"/>
                    <a:pt x="1715381" y="1681678"/>
                    <a:pt x="1729047" y="1662546"/>
                  </a:cubicBezTo>
                  <a:cubicBezTo>
                    <a:pt x="1743452" y="1642379"/>
                    <a:pt x="1750002" y="1617562"/>
                    <a:pt x="1762298" y="1596044"/>
                  </a:cubicBezTo>
                  <a:cubicBezTo>
                    <a:pt x="1856295" y="1431549"/>
                    <a:pt x="1728318" y="1680630"/>
                    <a:pt x="1828800" y="1479666"/>
                  </a:cubicBezTo>
                  <a:cubicBezTo>
                    <a:pt x="1834342" y="1451957"/>
                    <a:pt x="1838572" y="1423953"/>
                    <a:pt x="1845426" y="1396539"/>
                  </a:cubicBezTo>
                  <a:cubicBezTo>
                    <a:pt x="1849676" y="1379537"/>
                    <a:pt x="1860845" y="1364145"/>
                    <a:pt x="1862051" y="1346662"/>
                  </a:cubicBezTo>
                  <a:cubicBezTo>
                    <a:pt x="1871972" y="1202810"/>
                    <a:pt x="1873134" y="1058487"/>
                    <a:pt x="1878676" y="914400"/>
                  </a:cubicBezTo>
                  <a:cubicBezTo>
                    <a:pt x="1873134" y="737062"/>
                    <a:pt x="1885197" y="558294"/>
                    <a:pt x="1862051" y="382386"/>
                  </a:cubicBezTo>
                  <a:cubicBezTo>
                    <a:pt x="1862051" y="382384"/>
                    <a:pt x="1778924" y="257696"/>
                    <a:pt x="1762298" y="232757"/>
                  </a:cubicBezTo>
                  <a:lnTo>
                    <a:pt x="1745673" y="199506"/>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8" name="Freeform 17"/>
            <p:cNvSpPr/>
            <p:nvPr/>
          </p:nvSpPr>
          <p:spPr>
            <a:xfrm>
              <a:off x="5170680" y="4089960"/>
              <a:ext cx="1517400" cy="1877760"/>
            </a:xfrm>
            <a:custGeom>
              <a:avLst/>
              <a:gdLst/>
              <a:ahLst/>
              <a:rect l="l" t="t" r="r" b="b"/>
              <a:pathLst>
                <a:path w="1517258" h="1878676">
                  <a:moveTo>
                    <a:pt x="66502" y="1712422"/>
                  </a:moveTo>
                  <a:cubicBezTo>
                    <a:pt x="63731" y="1687484"/>
                    <a:pt x="57312" y="1656556"/>
                    <a:pt x="49877" y="1629294"/>
                  </a:cubicBezTo>
                  <a:cubicBezTo>
                    <a:pt x="40655" y="1595480"/>
                    <a:pt x="16626" y="1529542"/>
                    <a:pt x="16626" y="1529542"/>
                  </a:cubicBezTo>
                  <a:cubicBezTo>
                    <a:pt x="11084" y="1285702"/>
                    <a:pt x="0" y="1041925"/>
                    <a:pt x="0" y="798022"/>
                  </a:cubicBezTo>
                  <a:cubicBezTo>
                    <a:pt x="0" y="648290"/>
                    <a:pt x="6666" y="498534"/>
                    <a:pt x="16626" y="349134"/>
                  </a:cubicBezTo>
                  <a:cubicBezTo>
                    <a:pt x="17792" y="331648"/>
                    <a:pt x="25414" y="314932"/>
                    <a:pt x="33251" y="299258"/>
                  </a:cubicBezTo>
                  <a:cubicBezTo>
                    <a:pt x="67887" y="229986"/>
                    <a:pt x="91442" y="232756"/>
                    <a:pt x="166255" y="182880"/>
                  </a:cubicBezTo>
                  <a:lnTo>
                    <a:pt x="266008" y="116378"/>
                  </a:lnTo>
                  <a:cubicBezTo>
                    <a:pt x="282633" y="105294"/>
                    <a:pt x="296928" y="89446"/>
                    <a:pt x="315884" y="83127"/>
                  </a:cubicBezTo>
                  <a:cubicBezTo>
                    <a:pt x="450191" y="38358"/>
                    <a:pt x="409811" y="43680"/>
                    <a:pt x="581891" y="33251"/>
                  </a:cubicBezTo>
                  <a:cubicBezTo>
                    <a:pt x="709240" y="25533"/>
                    <a:pt x="836815" y="22167"/>
                    <a:pt x="964277" y="16625"/>
                  </a:cubicBezTo>
                  <a:cubicBezTo>
                    <a:pt x="980902" y="11083"/>
                    <a:pt x="996628" y="0"/>
                    <a:pt x="1014153" y="0"/>
                  </a:cubicBezTo>
                  <a:cubicBezTo>
                    <a:pt x="1053339" y="0"/>
                    <a:pt x="1091977" y="9615"/>
                    <a:pt x="1130531" y="16625"/>
                  </a:cubicBezTo>
                  <a:cubicBezTo>
                    <a:pt x="1162476" y="22433"/>
                    <a:pt x="1280521" y="55659"/>
                    <a:pt x="1296786" y="66502"/>
                  </a:cubicBezTo>
                  <a:lnTo>
                    <a:pt x="1346662" y="99753"/>
                  </a:lnTo>
                  <a:cubicBezTo>
                    <a:pt x="1352204" y="116378"/>
                    <a:pt x="1362288" y="132133"/>
                    <a:pt x="1363288" y="149629"/>
                  </a:cubicBezTo>
                  <a:cubicBezTo>
                    <a:pt x="1370898" y="282795"/>
                    <a:pt x="1394580" y="1253622"/>
                    <a:pt x="1396539" y="1330036"/>
                  </a:cubicBezTo>
                  <a:cubicBezTo>
                    <a:pt x="1388104" y="1583073"/>
                    <a:pt x="1517258" y="1768442"/>
                    <a:pt x="1330037" y="1862051"/>
                  </a:cubicBezTo>
                  <a:cubicBezTo>
                    <a:pt x="1314362" y="1869888"/>
                    <a:pt x="1296786" y="1873134"/>
                    <a:pt x="1280160" y="1878676"/>
                  </a:cubicBezTo>
                  <a:cubicBezTo>
                    <a:pt x="1075113" y="1873134"/>
                    <a:pt x="869773" y="1874336"/>
                    <a:pt x="665019" y="1862051"/>
                  </a:cubicBezTo>
                  <a:cubicBezTo>
                    <a:pt x="592259" y="1857685"/>
                    <a:pt x="519603" y="1846479"/>
                    <a:pt x="448888" y="1828800"/>
                  </a:cubicBezTo>
                  <a:cubicBezTo>
                    <a:pt x="429503" y="1823954"/>
                    <a:pt x="418825" y="1798133"/>
                    <a:pt x="399011" y="1795549"/>
                  </a:cubicBezTo>
                  <a:cubicBezTo>
                    <a:pt x="288968" y="1781195"/>
                    <a:pt x="177338" y="1784465"/>
                    <a:pt x="66502" y="1778923"/>
                  </a:cubicBezTo>
                  <a:cubicBezTo>
                    <a:pt x="44620" y="1713275"/>
                    <a:pt x="69273" y="1737360"/>
                    <a:pt x="66502" y="1712422"/>
                  </a:cubicBez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9" name="Freeform 18"/>
            <p:cNvSpPr/>
            <p:nvPr/>
          </p:nvSpPr>
          <p:spPr>
            <a:xfrm>
              <a:off x="3663720" y="3942000"/>
              <a:ext cx="1522800" cy="2258640"/>
            </a:xfrm>
            <a:custGeom>
              <a:avLst/>
              <a:gdLst/>
              <a:ahLst/>
              <a:rect l="l" t="t" r="r" b="b"/>
              <a:pathLst>
                <a:path w="1522817" h="2259518">
                  <a:moveTo>
                    <a:pt x="1473392" y="1112361"/>
                  </a:moveTo>
                  <a:cubicBezTo>
                    <a:pt x="1394240" y="954053"/>
                    <a:pt x="1456490" y="1094348"/>
                    <a:pt x="1390265" y="763227"/>
                  </a:cubicBezTo>
                  <a:cubicBezTo>
                    <a:pt x="1311880" y="371305"/>
                    <a:pt x="1408282" y="989107"/>
                    <a:pt x="1323763" y="397467"/>
                  </a:cubicBezTo>
                  <a:cubicBezTo>
                    <a:pt x="1312051" y="315485"/>
                    <a:pt x="1311894" y="285859"/>
                    <a:pt x="1290512" y="214587"/>
                  </a:cubicBezTo>
                  <a:cubicBezTo>
                    <a:pt x="1281688" y="185174"/>
                    <a:pt x="1259177" y="93091"/>
                    <a:pt x="1224011" y="64958"/>
                  </a:cubicBezTo>
                  <a:cubicBezTo>
                    <a:pt x="1210326" y="54010"/>
                    <a:pt x="1191620" y="49498"/>
                    <a:pt x="1174134" y="48332"/>
                  </a:cubicBezTo>
                  <a:cubicBezTo>
                    <a:pt x="1024734" y="38372"/>
                    <a:pt x="874876" y="37249"/>
                    <a:pt x="725247" y="31707"/>
                  </a:cubicBezTo>
                  <a:cubicBezTo>
                    <a:pt x="553691" y="3114"/>
                    <a:pt x="579888" y="0"/>
                    <a:pt x="326236" y="31707"/>
                  </a:cubicBezTo>
                  <a:cubicBezTo>
                    <a:pt x="291457" y="36054"/>
                    <a:pt x="226483" y="64958"/>
                    <a:pt x="226483" y="64958"/>
                  </a:cubicBezTo>
                  <a:cubicBezTo>
                    <a:pt x="131935" y="159506"/>
                    <a:pt x="208102" y="68468"/>
                    <a:pt x="159982" y="164710"/>
                  </a:cubicBezTo>
                  <a:cubicBezTo>
                    <a:pt x="136835" y="211005"/>
                    <a:pt x="113625" y="227693"/>
                    <a:pt x="76854" y="264463"/>
                  </a:cubicBezTo>
                  <a:cubicBezTo>
                    <a:pt x="71312" y="281088"/>
                    <a:pt x="65043" y="297489"/>
                    <a:pt x="60229" y="314339"/>
                  </a:cubicBezTo>
                  <a:cubicBezTo>
                    <a:pt x="0" y="525140"/>
                    <a:pt x="36719" y="623855"/>
                    <a:pt x="60229" y="929481"/>
                  </a:cubicBezTo>
                  <a:cubicBezTo>
                    <a:pt x="62917" y="964427"/>
                    <a:pt x="93480" y="1029234"/>
                    <a:pt x="93480" y="1029234"/>
                  </a:cubicBezTo>
                  <a:cubicBezTo>
                    <a:pt x="99022" y="1167779"/>
                    <a:pt x="100882" y="1306521"/>
                    <a:pt x="110105" y="1444870"/>
                  </a:cubicBezTo>
                  <a:cubicBezTo>
                    <a:pt x="111985" y="1473066"/>
                    <a:pt x="114094" y="1502723"/>
                    <a:pt x="126731" y="1527998"/>
                  </a:cubicBezTo>
                  <a:cubicBezTo>
                    <a:pt x="142600" y="1559737"/>
                    <a:pt x="171941" y="1582737"/>
                    <a:pt x="193232" y="1611125"/>
                  </a:cubicBezTo>
                  <a:cubicBezTo>
                    <a:pt x="205221" y="1627110"/>
                    <a:pt x="216570" y="1643652"/>
                    <a:pt x="226483" y="1661001"/>
                  </a:cubicBezTo>
                  <a:cubicBezTo>
                    <a:pt x="238779" y="1682519"/>
                    <a:pt x="247438" y="1705985"/>
                    <a:pt x="259734" y="1727503"/>
                  </a:cubicBezTo>
                  <a:cubicBezTo>
                    <a:pt x="269647" y="1744852"/>
                    <a:pt x="283072" y="1760030"/>
                    <a:pt x="292985" y="1777379"/>
                  </a:cubicBezTo>
                  <a:cubicBezTo>
                    <a:pt x="305281" y="1798897"/>
                    <a:pt x="313940" y="1822363"/>
                    <a:pt x="326236" y="1843881"/>
                  </a:cubicBezTo>
                  <a:cubicBezTo>
                    <a:pt x="373137" y="1925958"/>
                    <a:pt x="349884" y="1865092"/>
                    <a:pt x="409363" y="1960259"/>
                  </a:cubicBezTo>
                  <a:cubicBezTo>
                    <a:pt x="476551" y="2067760"/>
                    <a:pt x="404276" y="2027101"/>
                    <a:pt x="558992" y="2143139"/>
                  </a:cubicBezTo>
                  <a:cubicBezTo>
                    <a:pt x="581159" y="2159765"/>
                    <a:pt x="605901" y="2173423"/>
                    <a:pt x="625494" y="2193016"/>
                  </a:cubicBezTo>
                  <a:cubicBezTo>
                    <a:pt x="639623" y="2207145"/>
                    <a:pt x="641396" y="2232979"/>
                    <a:pt x="658745" y="2242892"/>
                  </a:cubicBezTo>
                  <a:cubicBezTo>
                    <a:pt x="683280" y="2256912"/>
                    <a:pt x="714163" y="2253976"/>
                    <a:pt x="741872" y="2259518"/>
                  </a:cubicBezTo>
                  <a:cubicBezTo>
                    <a:pt x="819458" y="2248434"/>
                    <a:pt x="897520" y="2240287"/>
                    <a:pt x="974629" y="2226267"/>
                  </a:cubicBezTo>
                  <a:cubicBezTo>
                    <a:pt x="1083851" y="2206408"/>
                    <a:pt x="1171892" y="2173589"/>
                    <a:pt x="1273887" y="2126514"/>
                  </a:cubicBezTo>
                  <a:cubicBezTo>
                    <a:pt x="1292029" y="2118141"/>
                    <a:pt x="1307138" y="2104347"/>
                    <a:pt x="1323763" y="2093263"/>
                  </a:cubicBezTo>
                  <a:cubicBezTo>
                    <a:pt x="1350080" y="2053788"/>
                    <a:pt x="1375957" y="2012975"/>
                    <a:pt x="1406891" y="1976885"/>
                  </a:cubicBezTo>
                  <a:cubicBezTo>
                    <a:pt x="1422192" y="1959033"/>
                    <a:pt x="1440142" y="1943634"/>
                    <a:pt x="1456767" y="1927008"/>
                  </a:cubicBezTo>
                  <a:cubicBezTo>
                    <a:pt x="1462309" y="1910383"/>
                    <a:pt x="1469590" y="1894239"/>
                    <a:pt x="1473392" y="1877132"/>
                  </a:cubicBezTo>
                  <a:cubicBezTo>
                    <a:pt x="1522817" y="1654718"/>
                    <a:pt x="1490018" y="1372362"/>
                    <a:pt x="1490018" y="1178863"/>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0" name="Freeform 19"/>
            <p:cNvSpPr/>
            <p:nvPr/>
          </p:nvSpPr>
          <p:spPr>
            <a:xfrm>
              <a:off x="2111400" y="3907440"/>
              <a:ext cx="1712520" cy="2044080"/>
            </a:xfrm>
            <a:custGeom>
              <a:avLst/>
              <a:gdLst/>
              <a:ahLst/>
              <a:rect l="l" t="t" r="r" b="b"/>
              <a:pathLst>
                <a:path w="1712422" h="2044931">
                  <a:moveTo>
                    <a:pt x="831272" y="1978429"/>
                  </a:moveTo>
                  <a:cubicBezTo>
                    <a:pt x="875212" y="1989414"/>
                    <a:pt x="956768" y="2011680"/>
                    <a:pt x="997527" y="2011680"/>
                  </a:cubicBezTo>
                  <a:cubicBezTo>
                    <a:pt x="1108502" y="2011680"/>
                    <a:pt x="1219200" y="2000596"/>
                    <a:pt x="1330036" y="1995054"/>
                  </a:cubicBezTo>
                  <a:cubicBezTo>
                    <a:pt x="1447534" y="1971555"/>
                    <a:pt x="1386353" y="1987365"/>
                    <a:pt x="1512916" y="1945178"/>
                  </a:cubicBezTo>
                  <a:lnTo>
                    <a:pt x="1562792" y="1928553"/>
                  </a:lnTo>
                  <a:cubicBezTo>
                    <a:pt x="1568334" y="1911927"/>
                    <a:pt x="1570907" y="1893996"/>
                    <a:pt x="1579418" y="1878676"/>
                  </a:cubicBezTo>
                  <a:cubicBezTo>
                    <a:pt x="1598826" y="1843742"/>
                    <a:pt x="1645920" y="1778923"/>
                    <a:pt x="1645920" y="1778923"/>
                  </a:cubicBezTo>
                  <a:cubicBezTo>
                    <a:pt x="1657004" y="1745672"/>
                    <a:pt x="1678224" y="1714208"/>
                    <a:pt x="1679171" y="1679171"/>
                  </a:cubicBezTo>
                  <a:cubicBezTo>
                    <a:pt x="1696269" y="1046511"/>
                    <a:pt x="1630928" y="1258624"/>
                    <a:pt x="1712422" y="1014153"/>
                  </a:cubicBezTo>
                  <a:cubicBezTo>
                    <a:pt x="1706880" y="980902"/>
                    <a:pt x="1700563" y="947771"/>
                    <a:pt x="1695796" y="914400"/>
                  </a:cubicBezTo>
                  <a:cubicBezTo>
                    <a:pt x="1689477" y="870169"/>
                    <a:pt x="1685799" y="825581"/>
                    <a:pt x="1679171" y="781396"/>
                  </a:cubicBezTo>
                  <a:cubicBezTo>
                    <a:pt x="1669170" y="714723"/>
                    <a:pt x="1667240" y="645850"/>
                    <a:pt x="1645920" y="581891"/>
                  </a:cubicBezTo>
                  <a:cubicBezTo>
                    <a:pt x="1640378" y="565265"/>
                    <a:pt x="1637131" y="547689"/>
                    <a:pt x="1629294" y="532014"/>
                  </a:cubicBezTo>
                  <a:cubicBezTo>
                    <a:pt x="1620358" y="514142"/>
                    <a:pt x="1607127" y="498763"/>
                    <a:pt x="1596043" y="482138"/>
                  </a:cubicBezTo>
                  <a:cubicBezTo>
                    <a:pt x="1579881" y="433652"/>
                    <a:pt x="1575516" y="412719"/>
                    <a:pt x="1546167" y="365760"/>
                  </a:cubicBezTo>
                  <a:cubicBezTo>
                    <a:pt x="1531481" y="342263"/>
                    <a:pt x="1511661" y="322313"/>
                    <a:pt x="1496291" y="299258"/>
                  </a:cubicBezTo>
                  <a:cubicBezTo>
                    <a:pt x="1443393" y="219912"/>
                    <a:pt x="1456546" y="209233"/>
                    <a:pt x="1379912" y="149629"/>
                  </a:cubicBezTo>
                  <a:cubicBezTo>
                    <a:pt x="1309723" y="95038"/>
                    <a:pt x="1312274" y="107639"/>
                    <a:pt x="1246909" y="83127"/>
                  </a:cubicBezTo>
                  <a:cubicBezTo>
                    <a:pt x="1190675" y="62039"/>
                    <a:pt x="1166747" y="48349"/>
                    <a:pt x="1113905" y="33251"/>
                  </a:cubicBezTo>
                  <a:cubicBezTo>
                    <a:pt x="1059109" y="17595"/>
                    <a:pt x="1021429" y="11430"/>
                    <a:pt x="964276" y="0"/>
                  </a:cubicBezTo>
                  <a:lnTo>
                    <a:pt x="382385" y="33251"/>
                  </a:lnTo>
                  <a:cubicBezTo>
                    <a:pt x="359603" y="35003"/>
                    <a:pt x="335620" y="38363"/>
                    <a:pt x="315883" y="49876"/>
                  </a:cubicBezTo>
                  <a:cubicBezTo>
                    <a:pt x="268014" y="77800"/>
                    <a:pt x="228991" y="118889"/>
                    <a:pt x="182880" y="149629"/>
                  </a:cubicBezTo>
                  <a:lnTo>
                    <a:pt x="133003" y="182880"/>
                  </a:lnTo>
                  <a:cubicBezTo>
                    <a:pt x="73468" y="272184"/>
                    <a:pt x="71822" y="255698"/>
                    <a:pt x="49876" y="332509"/>
                  </a:cubicBezTo>
                  <a:cubicBezTo>
                    <a:pt x="43599" y="354479"/>
                    <a:pt x="39817" y="377125"/>
                    <a:pt x="33251" y="399011"/>
                  </a:cubicBezTo>
                  <a:cubicBezTo>
                    <a:pt x="23180" y="432582"/>
                    <a:pt x="0" y="498763"/>
                    <a:pt x="0" y="498763"/>
                  </a:cubicBezTo>
                  <a:cubicBezTo>
                    <a:pt x="5542" y="676101"/>
                    <a:pt x="6503" y="853642"/>
                    <a:pt x="16625" y="1030778"/>
                  </a:cubicBezTo>
                  <a:cubicBezTo>
                    <a:pt x="17625" y="1048274"/>
                    <a:pt x="25414" y="1064979"/>
                    <a:pt x="33251" y="1080654"/>
                  </a:cubicBezTo>
                  <a:cubicBezTo>
                    <a:pt x="42187" y="1098526"/>
                    <a:pt x="53710" y="1115181"/>
                    <a:pt x="66502" y="1130531"/>
                  </a:cubicBezTo>
                  <a:cubicBezTo>
                    <a:pt x="81554" y="1148593"/>
                    <a:pt x="99753" y="1163782"/>
                    <a:pt x="116378" y="1180407"/>
                  </a:cubicBezTo>
                  <a:cubicBezTo>
                    <a:pt x="154559" y="1333134"/>
                    <a:pt x="99379" y="1175784"/>
                    <a:pt x="182880" y="1280160"/>
                  </a:cubicBezTo>
                  <a:cubicBezTo>
                    <a:pt x="193828" y="1293844"/>
                    <a:pt x="190994" y="1314717"/>
                    <a:pt x="199505" y="1330036"/>
                  </a:cubicBezTo>
                  <a:cubicBezTo>
                    <a:pt x="252593" y="1425595"/>
                    <a:pt x="253995" y="1424705"/>
                    <a:pt x="332509" y="1479665"/>
                  </a:cubicBezTo>
                  <a:cubicBezTo>
                    <a:pt x="365248" y="1502582"/>
                    <a:pt x="394350" y="1533529"/>
                    <a:pt x="432262" y="1546167"/>
                  </a:cubicBezTo>
                  <a:cubicBezTo>
                    <a:pt x="488214" y="1564818"/>
                    <a:pt x="491121" y="1563176"/>
                    <a:pt x="548640" y="1596043"/>
                  </a:cubicBezTo>
                  <a:cubicBezTo>
                    <a:pt x="565989" y="1605956"/>
                    <a:pt x="584387" y="1615165"/>
                    <a:pt x="598516" y="1629294"/>
                  </a:cubicBezTo>
                  <a:cubicBezTo>
                    <a:pt x="618109" y="1648887"/>
                    <a:pt x="630359" y="1674758"/>
                    <a:pt x="648392" y="1695796"/>
                  </a:cubicBezTo>
                  <a:cubicBezTo>
                    <a:pt x="663694" y="1713648"/>
                    <a:pt x="681643" y="1729047"/>
                    <a:pt x="698269" y="1745673"/>
                  </a:cubicBezTo>
                  <a:cubicBezTo>
                    <a:pt x="748716" y="1897017"/>
                    <a:pt x="671329" y="1657977"/>
                    <a:pt x="731520" y="1878676"/>
                  </a:cubicBezTo>
                  <a:cubicBezTo>
                    <a:pt x="740742" y="1912491"/>
                    <a:pt x="745329" y="1949266"/>
                    <a:pt x="764771" y="1978429"/>
                  </a:cubicBezTo>
                  <a:cubicBezTo>
                    <a:pt x="775855" y="1995054"/>
                    <a:pt x="782419" y="2015823"/>
                    <a:pt x="798022" y="2028305"/>
                  </a:cubicBezTo>
                  <a:cubicBezTo>
                    <a:pt x="811706" y="2039253"/>
                    <a:pt x="831273" y="2039389"/>
                    <a:pt x="847898" y="2044931"/>
                  </a:cubicBezTo>
                  <a:lnTo>
                    <a:pt x="980902" y="2028305"/>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2000" fill="hold"/>
                                        <p:tgtEl>
                                          <p:spTgt spid="88"/>
                                        </p:tgtEl>
                                        <p:attrNameLst>
                                          <p:attrName>ppt_x</p:attrName>
                                        </p:attrNameLst>
                                      </p:cBhvr>
                                      <p:tavLst>
                                        <p:tav tm="0">
                                          <p:val>
                                            <p:strVal val="#ppt_x"/>
                                          </p:val>
                                        </p:tav>
                                        <p:tav tm="100000">
                                          <p:val>
                                            <p:strVal val="#ppt_x"/>
                                          </p:val>
                                        </p:tav>
                                      </p:tavLst>
                                    </p:anim>
                                    <p:anim calcmode="lin" valueType="num">
                                      <p:cBhvr additive="base">
                                        <p:cTn id="8"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1000" fill="hold"/>
                                        <p:tgtEl>
                                          <p:spTgt spid="96"/>
                                        </p:tgtEl>
                                        <p:attrNameLst>
                                          <p:attrName>ppt_x</p:attrName>
                                        </p:attrNameLst>
                                      </p:cBhvr>
                                      <p:tavLst>
                                        <p:tav tm="0">
                                          <p:val>
                                            <p:strVal val="#ppt_x"/>
                                          </p:val>
                                        </p:tav>
                                        <p:tav tm="100000">
                                          <p:val>
                                            <p:strVal val="#ppt_x"/>
                                          </p:val>
                                        </p:tav>
                                      </p:tavLst>
                                    </p:anim>
                                    <p:anim calcmode="lin" valueType="num">
                                      <p:cBhvr additive="base">
                                        <p:cTn id="14" dur="1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measurement - quotative)</a:t>
            </a:r>
            <a:endParaRPr b="0" lang="en-US" sz="4400" spc="-1" strike="noStrike">
              <a:solidFill>
                <a:srgbClr val="2b5ca9"/>
              </a:solidFill>
              <a:latin typeface="Arial"/>
            </a:endParaRPr>
          </a:p>
        </p:txBody>
      </p:sp>
      <p:sp>
        <p:nvSpPr>
          <p:cNvPr id="102" name=""/>
          <p:cNvSpPr txBox="1"/>
          <p:nvPr/>
        </p:nvSpPr>
        <p:spPr>
          <a:xfrm>
            <a:off x="456840" y="1599840"/>
            <a:ext cx="8458200" cy="2971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can divide by a frac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e.g. 7 yards of ribbon, ¾ of a yard to wrap a gif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gifts) is unknow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gift) is unknown (¾)</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6DD8-AEE2-47F5-B2FC-F54DA5F72B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04" name="Group 27"/>
          <p:cNvGrpSpPr/>
          <p:nvPr/>
        </p:nvGrpSpPr>
        <p:grpSpPr>
          <a:xfrm>
            <a:off x="1676520" y="4952880"/>
            <a:ext cx="6400800" cy="304920"/>
            <a:chOff x="1676520" y="4952880"/>
            <a:chExt cx="6400800" cy="304920"/>
          </a:xfrm>
        </p:grpSpPr>
        <p:sp>
          <p:nvSpPr>
            <p:cNvPr id="105" name="Rectangle 20"/>
            <p:cNvSpPr/>
            <p:nvPr/>
          </p:nvSpPr>
          <p:spPr>
            <a:xfrm>
              <a:off x="1676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21"/>
            <p:cNvSpPr/>
            <p:nvPr/>
          </p:nvSpPr>
          <p:spPr>
            <a:xfrm>
              <a:off x="7162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2"/>
            <p:cNvSpPr/>
            <p:nvPr/>
          </p:nvSpPr>
          <p:spPr>
            <a:xfrm>
              <a:off x="6248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3"/>
            <p:cNvSpPr/>
            <p:nvPr/>
          </p:nvSpPr>
          <p:spPr>
            <a:xfrm>
              <a:off x="53341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24"/>
            <p:cNvSpPr/>
            <p:nvPr/>
          </p:nvSpPr>
          <p:spPr>
            <a:xfrm>
              <a:off x="44197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25"/>
            <p:cNvSpPr/>
            <p:nvPr/>
          </p:nvSpPr>
          <p:spPr>
            <a:xfrm>
              <a:off x="35053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26"/>
            <p:cNvSpPr/>
            <p:nvPr/>
          </p:nvSpPr>
          <p:spPr>
            <a:xfrm>
              <a:off x="2590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 name="Group 49"/>
          <p:cNvGrpSpPr/>
          <p:nvPr/>
        </p:nvGrpSpPr>
        <p:grpSpPr>
          <a:xfrm>
            <a:off x="2362320" y="4724280"/>
            <a:ext cx="5486400" cy="762120"/>
            <a:chOff x="2362320" y="4724280"/>
            <a:chExt cx="5486400" cy="762120"/>
          </a:xfrm>
        </p:grpSpPr>
        <p:sp>
          <p:nvSpPr>
            <p:cNvPr id="113" name="Straight Connector 30"/>
            <p:cNvSpPr/>
            <p:nvPr/>
          </p:nvSpPr>
          <p:spPr>
            <a:xfrm>
              <a:off x="2362320" y="487656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traight Connector 40"/>
            <p:cNvSpPr/>
            <p:nvPr/>
          </p:nvSpPr>
          <p:spPr>
            <a:xfrm>
              <a:off x="3733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Straight Connector 41"/>
            <p:cNvSpPr/>
            <p:nvPr/>
          </p:nvSpPr>
          <p:spPr>
            <a:xfrm>
              <a:off x="4419720" y="472428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Straight Connector 42"/>
            <p:cNvSpPr/>
            <p:nvPr/>
          </p:nvSpPr>
          <p:spPr>
            <a:xfrm>
              <a:off x="51055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Straight Connector 43"/>
            <p:cNvSpPr/>
            <p:nvPr/>
          </p:nvSpPr>
          <p:spPr>
            <a:xfrm>
              <a:off x="57913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Straight Connector 44"/>
            <p:cNvSpPr/>
            <p:nvPr/>
          </p:nvSpPr>
          <p:spPr>
            <a:xfrm>
              <a:off x="6477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45"/>
            <p:cNvSpPr/>
            <p:nvPr/>
          </p:nvSpPr>
          <p:spPr>
            <a:xfrm>
              <a:off x="7162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Straight Connector 46"/>
            <p:cNvSpPr/>
            <p:nvPr/>
          </p:nvSpPr>
          <p:spPr>
            <a:xfrm>
              <a:off x="78487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Straight Connector 48"/>
            <p:cNvSpPr/>
            <p:nvPr/>
          </p:nvSpPr>
          <p:spPr>
            <a:xfrm>
              <a:off x="3048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4"/>
                                        </p:tgtEl>
                                        <p:attrNameLst>
                                          <p:attrName>style.visibility</p:attrName>
                                        </p:attrNameLst>
                                      </p:cBhvr>
                                      <p:to>
                                        <p:strVal val="visible"/>
                                      </p:to>
                                    </p:set>
                                    <p:anim calcmode="lin" valueType="num">
                                      <p:cBhvr additive="base">
                                        <p:cTn id="21" dur="500" fill="hold"/>
                                        <p:tgtEl>
                                          <p:spTgt spid="104"/>
                                        </p:tgtEl>
                                        <p:attrNameLst>
                                          <p:attrName>ppt_x</p:attrName>
                                        </p:attrNameLst>
                                      </p:cBhvr>
                                      <p:tavLst>
                                        <p:tav tm="0">
                                          <p:val>
                                            <p:strVal val="#ppt_x"/>
                                          </p:val>
                                        </p:tav>
                                        <p:tav tm="100000">
                                          <p:val>
                                            <p:strVal val="#ppt_x"/>
                                          </p:val>
                                        </p:tav>
                                      </p:tavLst>
                                    </p:anim>
                                    <p:anim calcmode="lin" valueType="num">
                                      <p:cBhvr additive="base">
                                        <p:cTn id="22"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base">
                                        <p:cTn id="27" dur="2000" fill="hold"/>
                                        <p:tgtEl>
                                          <p:spTgt spid="112"/>
                                        </p:tgtEl>
                                        <p:attrNameLst>
                                          <p:attrName>ppt_x</p:attrName>
                                        </p:attrNameLst>
                                      </p:cBhvr>
                                      <p:tavLst>
                                        <p:tav tm="0">
                                          <p:val>
                                            <p:strVal val="#ppt_x"/>
                                          </p:val>
                                        </p:tav>
                                        <p:tav tm="100000">
                                          <p:val>
                                            <p:strVal val="#ppt_x"/>
                                          </p:val>
                                        </p:tav>
                                      </p:tavLst>
                                    </p:anim>
                                    <p:anim calcmode="lin" valueType="num">
                                      <p:cBhvr additive="base">
                                        <p:cTn id="28" dur="20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ing Wall</a:t>
            </a:r>
            <a:endParaRPr b="0" lang="en-US" sz="4400" spc="-1" strike="noStrike">
              <a:solidFill>
                <a:srgbClr val="2b5ca9"/>
              </a:solidFill>
              <a:latin typeface="Arial"/>
            </a:endParaRPr>
          </a:p>
        </p:txBody>
      </p:sp>
      <p:sp>
        <p:nvSpPr>
          <p:cNvPr id="12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reconfigure the display of our learning journey thus far? </a:t>
            </a:r>
            <a:endParaRPr b="0" lang="en-US" sz="3200" spc="-1" strike="noStrike">
              <a:solidFill>
                <a:srgbClr val="000000"/>
              </a:solidFill>
              <a:latin typeface="Arial"/>
            </a:endParaRPr>
          </a:p>
        </p:txBody>
      </p:sp>
      <p:sp>
        <p:nvSpPr>
          <p:cNvPr id="12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C616-FC0F-44ED-AF37-50C63BA587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endParaRPr b="0" lang="en-US" sz="4400" spc="-1" strike="noStrike">
              <a:solidFill>
                <a:srgbClr val="2b5ca9"/>
              </a:solidFill>
              <a:latin typeface="Arial"/>
            </a:endParaRPr>
          </a:p>
        </p:txBody>
      </p:sp>
      <p:sp>
        <p:nvSpPr>
          <p:cNvPr id="51" name=""/>
          <p:cNvSpPr txBox="1"/>
          <p:nvPr/>
        </p:nvSpPr>
        <p:spPr>
          <a:xfrm>
            <a:off x="457200" y="609120"/>
            <a:ext cx="8686800" cy="4876920"/>
          </a:xfrm>
          <a:prstGeom prst="rect">
            <a:avLst/>
          </a:prstGeom>
          <a:noFill/>
          <a:ln w="0">
            <a:noFill/>
          </a:ln>
        </p:spPr>
        <p:txBody>
          <a:bodyPr lIns="50760" rIns="132120" tIns="50760" bIns="50760" anchor="t">
            <a:normAutofit fontScale="97000"/>
          </a:bodyPr>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questioning and listening strategies that evoke and expose thinking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on the role of teachers and students in a learning community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connections between informal operational  sense and solving problems involving fractions </a:t>
            </a:r>
            <a:endParaRPr b="0" lang="en-US" sz="3200" spc="-1" strike="noStrike">
              <a:solidFill>
                <a:srgbClr val="000000"/>
              </a:solidFill>
              <a:latin typeface="Arial"/>
            </a:endParaRPr>
          </a:p>
          <a:p>
            <a:pPr marL="37116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the concept of fraction as a quotient (partitive and quotative) </a:t>
            </a:r>
            <a:endParaRPr b="0" lang="en-US" sz="32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43F4-9F02-4ED1-9751-E3E24AE439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4024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14A0-38A8-4A05-BC35-EF026FD912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 with a Purpose</a:t>
            </a:r>
            <a:endParaRPr b="0" lang="en-US" sz="4400" spc="-1" strike="noStrike">
              <a:solidFill>
                <a:srgbClr val="2b5ca9"/>
              </a:solidFill>
              <a:latin typeface="Arial"/>
            </a:endParaRPr>
          </a:p>
        </p:txBody>
      </p:sp>
      <p:sp>
        <p:nvSpPr>
          <p:cNvPr id="56" name=""/>
          <p:cNvSpPr txBox="1"/>
          <p:nvPr/>
        </p:nvSpPr>
        <p:spPr>
          <a:xfrm>
            <a:off x="457200" y="1599840"/>
            <a:ext cx="8229600" cy="24382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cooperativelearning.nuvvo.com/lesson/9592-seinfeld-teaches-history</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8 math class in the OCDSB</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B7AC-199A-4972-8FC7-CF154956CE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 the work by doing the work</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re teachers’ math understanding and the students’ math understanding come togeth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ations should enhance both teachers’ and students’ knowled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24B7-D763-4AFA-98BC-1359A92309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rownie Problem</a:t>
            </a:r>
            <a:endParaRPr b="0" lang="en-US" sz="4400" spc="-1" strike="noStrike">
              <a:solidFill>
                <a:srgbClr val="2b5ca9"/>
              </a:solidFill>
              <a:latin typeface="Arial"/>
            </a:endParaRPr>
          </a:p>
        </p:txBody>
      </p:sp>
      <p:sp>
        <p:nvSpPr>
          <p:cNvPr id="6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E079-A991-4EDA-88C1-151F7D066A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3" name="Picture 15" descr="brownies"/>
          <p:cNvPicPr/>
          <p:nvPr/>
        </p:nvPicPr>
        <p:blipFill>
          <a:blip r:embed="rId1"/>
          <a:stretch/>
        </p:blipFill>
        <p:spPr>
          <a:xfrm>
            <a:off x="4800600" y="1523880"/>
            <a:ext cx="3809880" cy="3810240"/>
          </a:xfrm>
          <a:prstGeom prst="rect">
            <a:avLst/>
          </a:prstGeom>
          <a:ln w="0">
            <a:noFill/>
          </a:ln>
        </p:spPr>
      </p:pic>
      <p:sp>
        <p:nvSpPr>
          <p:cNvPr id="64" name="Rectangle 4"/>
          <p:cNvSpPr/>
          <p:nvPr/>
        </p:nvSpPr>
        <p:spPr>
          <a:xfrm>
            <a:off x="457200" y="1600200"/>
            <a:ext cx="4191120" cy="3657600"/>
          </a:xfrm>
          <a:prstGeom prst="rect">
            <a:avLst/>
          </a:prstGeom>
          <a:noFill/>
          <a:ln w="0">
            <a:noFill/>
          </a:ln>
        </p:spPr>
        <p:style>
          <a:lnRef idx="0"/>
          <a:fillRef idx="0"/>
          <a:effectRef idx="0"/>
          <a:fontRef idx="minor"/>
        </p:style>
        <p:txBody>
          <a:bodyPr lIns="50760" rIns="132120" tIns="50760" bIns="50760" anchor="t">
            <a:noAutofit/>
          </a:bodyPr>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b baked  brownies.</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r son got in and ate some. There were only 7 left. Deb’s daughter and her friends walked in. They decided to  to split them up.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uch will each of the girls - Tori, Anna, Rachel, and Emily - ge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ing Simulation </a:t>
            </a:r>
            <a:endParaRPr b="0" lang="en-US" sz="4400" spc="-1" strike="noStrike">
              <a:solidFill>
                <a:srgbClr val="2b5ca9"/>
              </a:solidFill>
              <a:latin typeface="Arial"/>
            </a:endParaRPr>
          </a:p>
        </p:txBody>
      </p:sp>
      <p:sp>
        <p:nvSpPr>
          <p:cNvPr id="66" name="PlaceHolder 2"/>
          <p:cNvSpPr>
            <a:spLocks noGrp="1"/>
          </p:cNvSpPr>
          <p:nvPr>
            <p:ph/>
          </p:nvPr>
        </p:nvSpPr>
        <p:spPr>
          <a:xfrm>
            <a:off x="457200" y="1600200"/>
            <a:ext cx="8229600" cy="2666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ticipat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the learning goals be</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re some of the challenges in questioning?</a:t>
            </a: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presentations &amp; Learnings</a:t>
            </a: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sharing foundational to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division of whole numbers with fraction remaind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model (represents a numb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model (3 pieces, 3 browni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ming of fractions (1¾=7/4=1+½+¼)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udent responses </a:t>
            </a:r>
            <a:r>
              <a:rPr b="0" lang="en-CA" sz="4400" spc="-1" strike="noStrike">
                <a:solidFill>
                  <a:srgbClr val="2b5ca9"/>
                </a:solidFill>
                <a:latin typeface="Arial"/>
              </a:rPr>
              <a:t>	</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insight into thei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luminate ways the students understand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examples of ways of thinking for othe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16E4-ED0C-4C76-A992-D3E4F8263F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19T00:52:11Z</dcterms:modified>
  <cp:revision>30</cp:revision>
  <dc:subject/>
  <dc:title>&lt;Title&gt;</dc:title>
</cp:coreProperties>
</file>